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C25-187D-4B8A-BC3B-820C0C8C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979-ECCB-4B86-BC0A-239E7517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C37-982E-4D41-9AFF-6C8DC757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33D-6DBC-44F8-83CA-C155797D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DC4-A2A9-45A1-9343-3558F923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02E-43AF-4114-A6AE-9737DB13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1C2-2990-4A82-B364-04ED92C7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634-3E0B-428D-9DAD-CC00EBDD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146-5718-4DF4-85DD-0F5AA0CA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B65-555F-400B-A888-1623D21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233-A82B-4C43-AECA-B96D6E5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922-830D-4759-8970-68266EC1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DBB8-5956-4FE1-B9B8-9E4FAD0D706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Mt. St. Helen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t. St. Helen's, May 1980 (The U.S.A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upted on the morning of May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980, after being inactive for over 120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the subduction of the oceanic Juan de Fuca plate under the continental North American plate, on the West Coast of the United Sta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cano forms part of the Rockies Range of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ow It Happe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fter minor earthquakes and a small eruption during March, scientists carefully monitored the mountai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By the beginning of May a bulge had developed on the North side of the mountai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activity forced the Local Authorities to create a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"Red Zone"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around the volcano, from where any residents were evacuated, and no one was allowed to re-ente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saved a lot of people from the disaster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t approximately 8.30 a.m. on the 18</a:t>
            </a:r>
            <a:r>
              <a:rPr b="0" lang="en-US" sz="31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May, the volcano erupted a small amount of ash and stem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n, a couple of minutes later, something occurred that nobody could have predicte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n earthquake caused the bulge to collapse down the side of the mountai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released the full power of the explosive gases behind as the mountain literally blew its own side off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material from the massive landslide sped down the mountain, filling Spirit Lake and then racing on as a mud flow (it had mixed with the lake water) down the Toutle River and Kalama Riv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explosions from the side of the mountain sent a speeding cloud of gas, steam and dust across the ground to the North of the volcano, flattening everything in its path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trees of the forests around the mountain were toppled as if they were matchsticks, with the majority of them facing in the same directio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explosions also instantly melted all of the snow on the mountain, adding to the mudflows that were racing down the mountain and into the rive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flows took all with them, including huge trees and even bridg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uring the remainder of the day huge gas and ash eruptions occurred, spreading a massive cloud of ash that took 7 days to entirely circle the worl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wn of Yakima, 120 miles away, was so badly affected by the dust and ash that residents could only go outside if they wore facemask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After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mountain managed to reduce its height by nearly 400 metres and blew an amphitheatre shape hole in its side, 3km long and 500 metres wid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61 people were killed by the eruption, mainly by the poisonous gases, but also by being caught up in the massively swollen river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o wildlife, either plants or trees, survived within the 25km blast zon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wever vegetation has already made great strides to re-colonise the are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5:06:18Z</dcterms:created>
  <dc:creator>Dell_02</dc:creator>
  <dc:description/>
  <dc:language>en-US</dc:language>
  <cp:lastModifiedBy>Dell_02</cp:lastModifiedBy>
  <dcterms:modified xsi:type="dcterms:W3CDTF">2011-01-26T05:14:41Z</dcterms:modified>
  <cp:revision>1</cp:revision>
  <dc:subject/>
  <dc:title>Mt. St. Helens</dc:title>
</cp:coreProperties>
</file>